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FC3D-FA2A-4373-AA25-D3076CA894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 of 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ranspor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need sugars and water to stay a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low dead t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and minerals transported in an upwards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g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trong so help support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s sugar around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ion cells provide the energy for the tube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walls of the tube cells have pores through which food is transported from cell to cell in the form of dissolved sug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pores found on the surfaces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ta take in carbon dioxide from the air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ur passes out from the leaf to the atmosphere through stom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7811-8463-499D-A2ED-D4151644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E3D-AD49-4EC5-9B24-01D77288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9A2-D519-4A73-9DBA-63FACECB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34A-1E1F-470C-81A0-1C1D2F38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03A6-76F2-47BD-8D1E-C3189C95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AAA5-E717-417C-A97C-D2016A75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4C6C-F3A3-4DB7-8766-29FEC5EC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8DF-E636-4A21-B3FC-6E9B3695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9BA-D7A3-4290-A7C9-0FE9A17D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303-FCE1-4771-BFD5-7C886FDF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4F06-1E98-41F1-801E-03B70E30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1F4-C202-4F98-94BE-CB9DCF84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32B2-513F-4973-9DA9-3BAED783BF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ransport of Mater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orld of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eed for transpor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lants ne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ugar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stay a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NA01441_"/>
          <p:cNvPicPr/>
          <p:nvPr/>
        </p:nvPicPr>
        <p:blipFill>
          <a:blip r:embed="rId1"/>
          <a:stretch/>
        </p:blipFill>
        <p:spPr>
          <a:xfrm>
            <a:off x="3024360" y="2819520"/>
            <a:ext cx="3375000" cy="380988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V="1">
            <a:off x="2819520" y="3200400"/>
            <a:ext cx="0" cy="31240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85800" y="32767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needs to travel from the roots to the le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781680" y="3276720"/>
            <a:ext cx="0" cy="304776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7086600" y="327672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gars need to travel from the leaves to the rest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Xy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llow dead tu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 and minerals transported in an upward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gn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y strong so help support the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4013280" cy="6019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419360" cy="5562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lo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ransports sugar around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de of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ving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mpanion cells provide the energy for the tube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nd walls of the tube cells have pores through which food is transported from cell to cell in the form of dissolved sug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5943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324320" cy="3521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ny pores found on the surfaces of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tomata take in carbon diox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air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ter vapour passes ou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from the leaf to the atmosphere through stom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0" r="0" b="11114"/>
          <a:stretch/>
        </p:blipFill>
        <p:spPr>
          <a:xfrm>
            <a:off x="1523880" y="380880"/>
            <a:ext cx="6324840" cy="60962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7:55Z</dcterms:created>
  <dc:creator>hhashmi</dc:creator>
  <dc:description/>
  <dc:language>en-US</dc:language>
  <cp:lastModifiedBy>LEGION</cp:lastModifiedBy>
  <dcterms:modified xsi:type="dcterms:W3CDTF">2016-12-07T08:32:05Z</dcterms:modified>
  <cp:revision>5</cp:revision>
  <dc:subject/>
  <dc:title>Transport of Materials</dc:title>
</cp:coreProperties>
</file>